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386-2869-498D-A88E-601A270B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881-95B8-4F4A-A57E-C0A5D562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8DC-5F27-48E5-962A-53673DE1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080-6CE3-48FF-AEC7-98840CB4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B8C-E407-46E6-95BC-77AAC037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7A7-1AC8-4C98-83EB-4F15B7F8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C91-A46B-432D-B922-6C883CEC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EBF-944C-4B82-8497-70B24EE5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B71-F1A8-442D-BA1B-CE2E3982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376-7B15-4E47-A719-F3146FB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D16-E816-4570-B409-65A8A147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20A-9A13-4237-A5D2-CA5EFD10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E066-FCB4-4BC8-8785-2AFB46353C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科大\宣传部\PPT\PPT-2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科大\宣传部\PPT\PPT-2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3889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uoyue</cp:lastModifiedBy>
  <dcterms:modified xsi:type="dcterms:W3CDTF">2011-09-23T08:30:32Z</dcterms:modified>
  <cp:revision>4</cp:revision>
  <dc:subject/>
  <dc:title>幻灯片 1</dc:title>
</cp:coreProperties>
</file>