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2B6-EB06-4CA0-A03F-9599CCE0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A87-0B1A-41CC-8115-CCCB82E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FCF-094D-4D52-A7C0-378594CF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427-81FE-4BA7-A449-27DBE4B3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657-803E-4EDA-ADBC-48C05EC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0AE-10DF-4D5C-92A8-731229FF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70C-F994-4365-B5CD-FBC2D7DE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A59-FBBC-465B-AAFA-4FE926F2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259-BF8E-4377-B420-1318537B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475-3831-43D4-BE19-6EDC3FB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3F2-72C4-424E-BE8F-93F2939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738-2113-4D32-AF88-9F6A073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077-53FA-42FE-A8F0-DCC6AFAF6F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科大\宣传部\PPT\PPT-4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4508640"/>
            <a:ext cx="633744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科大\宣传部\PPT\PPT-4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33:13Z</dcterms:modified>
  <cp:revision>6</cp:revision>
  <dc:subject/>
  <dc:title>幻灯片 1</dc:title>
</cp:coreProperties>
</file>