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6CD-DE12-4458-B4C3-AA3345DD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5F4-D8CC-4914-A531-BB3BA2DE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3A5-C0E0-47B8-9C60-2AC46932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8B7-1210-480C-A163-99F34CED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28D-99F9-4361-8466-B5031480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186-5A7D-497A-87E8-F3F0C59B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8DE-7F91-45FD-AE8B-46267A0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F9B-8F90-41BB-BDA3-7D28DE56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BC0-4E58-434C-85DE-AFE79133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EB5-2BAB-46D8-BBAE-81519053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B97-DD0C-4CFB-800A-D56C7B6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F10-E196-43DF-88E4-A3F3DEE1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F623-798D-4486-A8B7-6B094559B9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科大\宣传部\PPT\PPT-5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65300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科大\宣传部\PPT\PPT-5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7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uoyue</cp:lastModifiedBy>
  <dcterms:modified xsi:type="dcterms:W3CDTF">2011-09-23T08:31:08Z</dcterms:modified>
  <cp:revision>8</cp:revision>
  <dc:subject/>
  <dc:title>幻灯片 1</dc:title>
</cp:coreProperties>
</file>