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30E3-C5D5-4F99-9CCA-475E61C2E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C0F3-C818-45E1-88CA-10516816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6E08-F4A0-4A45-90A6-F62352ABB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73E5-2812-4D84-9E87-9B6B6ACDF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A79A-E1E2-4AEC-BC50-99ADB4AF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F3FE-B8B8-41A9-9C47-C5639521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5B17-4F95-4720-98B9-08F06AE6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2B5C-99BB-4CF3-9236-B125AA99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74AE-053B-403A-9801-3DEC6A56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DA67-B613-4767-87C0-3737F822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3E7B-9262-4082-8079-BAB173C5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743A-D3F1-4D24-97E2-9C0DC821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33AE-D31C-40AB-8037-1114EE6599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66680" y="2286000"/>
            <a:ext cx="6950160" cy="23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33720" y="5562720"/>
            <a:ext cx="4876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56386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9080" y="76320"/>
            <a:ext cx="694980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4120"/>
            <a:ext cx="5029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huoyue</cp:lastModifiedBy>
  <dcterms:modified xsi:type="dcterms:W3CDTF">2011-09-23T08:28:35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