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ABB5-CB02-427C-9601-2D0A97A43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2332-0DD3-4210-9114-4B8046E0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9F94-6244-490E-A43A-B7533B967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3F9B-05FA-4018-BA15-BC62B2AC0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8C39-A093-4543-85AE-16D9501E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6954-E2BD-4A68-9AC7-03F53931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DD4B-A5D5-4FD2-A9CB-FD707156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3C87-9842-4CA3-A5B1-3BFFBBF6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B3F9-36EF-44F4-BBD0-CE81DB0B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6136-7D75-48BF-AE1A-84DCF96C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DD1C-586F-4698-9555-1CA4224B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0763-1BBB-481D-9695-20128805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8B7D-E2C5-4632-9395-672A78D0A7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G:\科大\宣传部\PPT\PPT-1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40400" cy="7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G:\科大\宣传部\PPT\PPT-1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11280" y="268920"/>
            <a:ext cx="4475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huoyue</cp:lastModifiedBy>
  <dcterms:modified xsi:type="dcterms:W3CDTF">2011-09-23T08:29:42Z</dcterms:modified>
  <cp:revision>3</cp:revision>
  <dc:subject/>
  <dc:title>幻灯片 1</dc:title>
</cp:coreProperties>
</file>